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3CA1-A112-4201-853C-E83746BD3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AAAD-62E5-4DB3-8959-CF83568F6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ydroponicsequipment.co/plant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AA3E-55AA-475F-BDB7-D6FC86538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xtremepapers.com/revision/gcse/biology/reprodu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6A35-4463-4A73-A171-A58A39676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2geneticswikib.wikispaces.com/Sexual+and+Asexual+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rtchat.com/info/propagating-kalanc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95B1-7692-4C21-A3C7-C57012A80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631A-8522-4A94-9F87-86613145E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A/AsexualReprodu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 tree image from: http://www.theresiliencyinstitute.net/fruit-tree-graf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interested, a lot of information about growing apples &amp; why grafting is used 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ardyfruittrees.ca/tutorials/2014/01/16/why-are-fruit-trees-g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BD4-8BC3-4ECA-B90C-B87FC7DB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29D-5633-41B1-9ABA-333B2B47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336-36A0-458E-AA76-CE5CA59D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C11-9314-4EEF-941E-CDBCC021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CF0-507A-4265-8BFA-6A58A0E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25A-9A2F-4E17-A7BB-3FC2A7B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26F-04A3-4EA8-8165-77EACE5F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BD6-25B8-4C2F-B8B0-20B0C363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978-A6DE-445D-8B9B-BF9BA870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67C-2992-44C1-A4AD-7D8E784C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5A1-F95A-440C-8B7B-82385CD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CBF-4ACA-4973-922B-EAD750CE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C583-9514-442E-824A-5F14CA0A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exual Reproduction in Seed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 plants reproduce both sexually &amp;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structures on stems, leaves, or roots t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 grow through mitosis &amp; cell division of existing cells, so offspring are c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sexual_reproduction_in_potato_plants"/>
          <p:cNvPicPr/>
          <p:nvPr/>
        </p:nvPicPr>
        <p:blipFill>
          <a:blip r:embed="rId1"/>
          <a:stretch/>
        </p:blipFill>
        <p:spPr>
          <a:xfrm>
            <a:off x="693720" y="609480"/>
            <a:ext cx="775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creen_shot_2011-11-30_at_1"/>
          <p:cNvPicPr/>
          <p:nvPr/>
        </p:nvPicPr>
        <p:blipFill>
          <a:blip r:embed="rId1"/>
          <a:stretch/>
        </p:blipFill>
        <p:spPr>
          <a:xfrm>
            <a:off x="685800" y="1554120"/>
            <a:ext cx="77724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rent plan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less energy &amp;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rental traits are well-suited to environment, offspring will also be well-s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lets survive better than seedlings from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genetic divers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ntire population being wi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t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produce new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f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ranches of trees onto other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ssu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reproduce orchi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2" descr="300x200xprop-kalanchoe-300x200.jpg.pagespeed.ic.TT8zDQ4tvU.jpg"/>
          <p:cNvPicPr/>
          <p:nvPr/>
        </p:nvPicPr>
        <p:blipFill>
          <a:blip r:embed="rId1"/>
          <a:srcRect l="19136" t="0" r="1913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5" descr="Grafting.gif"/>
          <p:cNvPicPr/>
          <p:nvPr/>
        </p:nvPicPr>
        <p:blipFill>
          <a:blip r:embed="rId1"/>
          <a:srcRect l="0" t="-18691" r="0" b="-18691"/>
          <a:stretch/>
        </p:blipFill>
        <p:spPr>
          <a:xfrm>
            <a:off x="611280" y="549360"/>
            <a:ext cx="3884400" cy="55465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6" descr="dwarf-pear-tree-2-types.jpg"/>
          <p:cNvPicPr/>
          <p:nvPr/>
        </p:nvPicPr>
        <p:blipFill>
          <a:blip r:embed="rId2"/>
          <a:srcRect l="15610" t="0" r="15610" b="0"/>
          <a:stretch/>
        </p:blipFill>
        <p:spPr>
          <a:xfrm>
            <a:off x="4643280" y="549360"/>
            <a:ext cx="381492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1:15:55Z</dcterms:created>
  <dc:creator>rubina khan</dc:creator>
  <dc:description/>
  <dc:language>en-US</dc:language>
  <cp:lastModifiedBy>rubina khan</cp:lastModifiedBy>
  <dcterms:modified xsi:type="dcterms:W3CDTF">2016-11-28T03:37:47Z</dcterms:modified>
  <cp:revision>47</cp:revision>
  <dc:subject/>
  <dc:title>Succession</dc:title>
</cp:coreProperties>
</file>